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533-BD77-4E9A-9A1F-4D2C76DF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4F8-8FC0-4061-90E1-B45D3F6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699-7CAB-4339-9B3E-68B7EACD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086-9EE6-4C0A-AAB6-3151D011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100-2128-4B65-BDB7-133CDE63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EB11-C0C1-4B5C-847B-4C056794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D3B-F797-44D8-AC95-D37B97FA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B6B6-2242-4917-8078-391080CD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240-DA94-4D7A-B9E1-EB4EFBC3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5F7-A727-4619-9729-0160522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421-CE40-4961-867E-9A2C863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FCB-0683-4F65-BC57-8895679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A6E-505C-4602-A146-90864A1F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meanddate.com/calendar/monthly.html?year=2007&amp;month=1&amp;country=1" TargetMode="External"/><Relationship Id="rId2" Type="http://schemas.openxmlformats.org/officeDocument/2006/relationships/hyperlink" Target="http://www.timeanddate.com/calendar/monthly.html?year=2007&amp;month=2&amp;country=1" TargetMode="External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piler Construction, Revised  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32120" y="1187280"/>
            <a:ext cx="4432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exical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ory of Context Free Grammars (CFGs) and Predictive (recursive descent) Par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LR Parsing 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Variables, Scope, Typ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Machine abst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Procedures, Function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middle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Assembly code, linker, loa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MinCaml back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Garbage Coll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Object Ori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preters, Byte Code interpreters, virtual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Re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4920" y="1687680"/>
            <a:ext cx="2099160" cy="3987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an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2   3   4   5   6 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  9 10 11 12 13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 16 17 18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ebruary 2007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  T  W  T   F   S 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3 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6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8  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3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7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2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4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7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880" y="37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279396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28880" y="39258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04240" y="1330200"/>
            <a:ext cx="233280" cy="1403640"/>
          </a:xfrm>
          <a:custGeom>
            <a:avLst/>
            <a:gdLst>
              <a:gd name="textAreaLeft" fmla="*/ 0 w 233280"/>
              <a:gd name="textAreaRight" fmla="*/ 84240 w 233280"/>
              <a:gd name="textAreaTop" fmla="*/ 36360 h 1403640"/>
              <a:gd name="textAreaBottom" fmla="*/ 1367280 h 14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1160" y="173196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ront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2000" y="4871880"/>
            <a:ext cx="198360" cy="1287720"/>
          </a:xfrm>
          <a:custGeom>
            <a:avLst/>
            <a:gdLst>
              <a:gd name="textAreaLeft" fmla="*/ 0 w 198360"/>
              <a:gd name="textAreaRight" fmla="*/ 71640 w 198360"/>
              <a:gd name="textAreaTop" fmla="*/ 33480 h 1287720"/>
              <a:gd name="textAreaBottom" fmla="*/ 1254240 h 12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1880" y="50245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2863800"/>
            <a:ext cx="183960" cy="965160"/>
          </a:xfrm>
          <a:custGeom>
            <a:avLst/>
            <a:gdLst>
              <a:gd name="textAreaLeft" fmla="*/ 0 w 183960"/>
              <a:gd name="textAreaRight" fmla="*/ 66240 w 183960"/>
              <a:gd name="textAreaTop" fmla="*/ 24840 h 965160"/>
              <a:gd name="textAreaBottom" fmla="*/ 9403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1320" y="4680000"/>
            <a:ext cx="453708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4068720"/>
            <a:ext cx="207720" cy="514440"/>
          </a:xfrm>
          <a:custGeom>
            <a:avLst/>
            <a:gdLst>
              <a:gd name="textAreaLeft" fmla="*/ 0 w 207720"/>
              <a:gd name="textAreaRight" fmla="*/ 74880 w 207720"/>
              <a:gd name="textAreaTop" fmla="*/ 13320 h 514440"/>
              <a:gd name="textAreaBottom" fmla="*/ 50112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0800" y="30942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iddle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0" y="4260960"/>
            <a:ext cx="10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ck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521-0A54-4A8D-864A-292512E284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5:36Z</dcterms:created>
  <dc:creator>Tim Griffin</dc:creator>
  <dc:description/>
  <dc:language>en-US</dc:language>
  <cp:lastModifiedBy>Tim Griffin</cp:lastModifiedBy>
  <dcterms:modified xsi:type="dcterms:W3CDTF">2007-02-18T23:26:11Z</dcterms:modified>
  <cp:revision>292</cp:revision>
  <dc:subject/>
  <dc:title>Slide 1</dc:title>
</cp:coreProperties>
</file>